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A4A-FDE6-4D13-8C2C-86202E74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6BF-79ED-4C63-BB1B-9685190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2D7E2-333C-48BC-9372-6BF1DD46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94F2-532F-4760-A4AA-65EED8D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A3F17-98F9-4558-A4AE-6B4649E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A0F09-728F-49C9-A054-EFBB3D9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62BF2-B371-40DE-AEE9-A4B572E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BB83-13C3-4275-8544-93C6F68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F4ED5-CF4A-4839-8CB4-6CE42F1A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0E0A-3A92-4ECE-96D3-B6205B39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089C6-0037-423D-8B3F-9E4F059C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167A9-0B6F-4787-BFA1-356B2C75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CFD-EE1F-4F57-BEE6-18B1E60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223B-A39A-4B19-A53B-EFC8D22C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7F0C2-47CF-4D24-835F-E913F556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FCC9C-AAAC-4ADC-974D-9E89530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E5159-38A2-4A95-B51A-66D45FD0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829E-8EF6-4BB5-93B8-4B17C0AD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B378C-A568-4C02-BC74-8C8DEE5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62ECC-5CCC-4E3B-9A3A-3D46BB9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61ED2-3BA2-4811-88B6-98DBD36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DC856-C508-440B-BD24-FDFAAC0D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6D7B9-360F-4A7E-8BDD-4B04598A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75B-E682-4D92-965C-760FD4C6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C1F5F-1179-4447-93DB-C4DDA19B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DD4C8-1F9E-44AD-BDDE-E7AD2054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E92F5-EF1C-44B0-928D-0BC7C60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DD51E-A09C-439E-BB65-F06F40E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570EA-5141-4C28-BFEE-F390CA17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99C4A-97B1-474E-9F66-C061820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7C17-9420-4C34-9231-6F3A9A25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82EFA-CDFF-41E8-8359-3EBC1AA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8D512-EBA1-4A2D-911F-FD876BA5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47CDA-9E19-414E-A4E1-93F6DB1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EB5C-E940-44C5-9BE2-1BDA3B11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3A832-F6F6-4F5F-910B-41ED5FDE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65C0-CF3F-4E80-A92B-49188953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4490-10D6-4092-88D8-18D81587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C0EE0-A3B3-4B51-9CBD-F092A1C5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8F5FA-6CE6-4369-BE2F-7E20998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D2601-ED2D-4BBF-A8AE-A1A9072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45750-CE76-455F-89A7-9D2DFA1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DC706-7B25-4E39-AEB3-801004AA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9B0A2-51AF-4F3F-B682-CEA4FCE8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87FF7-AE00-4B4F-BE85-7F5F754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6CE-0A00-4791-B6A1-10FB251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134EC-CCC1-428F-82E1-DAD2CBD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6CBBE-BAB4-4B0C-A4B1-FE71C56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3E142-09AE-4DE5-93B2-240B5F2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30582-1B76-46E1-98D1-309FDC2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1C39F-6956-4856-8504-F643DE79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555A0-B90C-4113-9880-EB214FFF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F3596-8046-42DF-81EB-EC41896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9CEBE-5757-4160-8948-42BEC71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AB9E2-7024-49D5-B975-6E42744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875A1-D779-4ACD-B81E-71147209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92B9-B30A-4AA9-99BF-8B7967EC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B2D3A-319E-498B-86A4-BC5DEAAF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B8915-ACED-4F69-9E9C-BC7C952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64C7A-2EDF-4ADE-A996-225BBC2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1BBB0-69CB-403D-968F-6E4BEB9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50BCB-892D-456E-83AB-0F1FD2F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4EA08-D9EF-49DC-B5C8-D2D1012C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E755C-0B62-45E9-9808-89C9447D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62F3F-DC3E-4B15-93BF-337D8B54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6C0AF-D7AF-4D60-A37D-6CFB1906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AB1AC-7F66-4946-8498-D6469E3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1CE9-964A-466A-B515-831E3106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845C7-EAA8-40D8-B48B-7F10FC7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403D3-C5FA-4AEB-99B0-2FA3CAA9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C0D17-1DED-4933-B243-776AF2E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E770C-AEF6-499E-A361-DD75B85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7E749-6386-499B-AB93-27AF608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61079-3B38-4175-A00C-18805DD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F9EEA-ED88-48E1-AD5B-4E0FA827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B237D-339A-4849-A3B4-FA64EACA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B7621-8798-494B-A8BD-3ABA4E8A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B279E-0223-44F3-A253-EB6CD743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B9D0-302A-49DC-BAA2-366F4CD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0EF45-BF7D-4585-B063-B94B7110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AF6DB-9649-4BE8-BB4E-D2F6FF9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1318B-B2C9-469F-B7E9-73525992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B0481-0B25-48EF-9462-43417CB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31941-AF8E-4811-BD79-E3AA625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09E98-7EC8-4952-BC68-1AFFEDA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FC8E1-BAB2-4B4B-92C2-5905D67D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189C9-2DAB-49BB-B3BA-1F1A2CB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B5955-50D9-4865-B384-04B4156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BB39A-F715-4E34-A82E-41E7A325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24D5-6FD7-4F85-9762-5121712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5B24E-2A03-49B3-A769-5AA908B0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18A08-5376-45BD-B6D8-6DEE3F37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F4727-242F-4E6D-AFAD-000B83E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41BD8-D4D4-4C79-8E74-C863A15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C321E-3D0F-4177-B957-0C0897C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A89CE-E274-45DA-A4C8-E090EB0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0D2B0-63CE-487B-866D-D38DA9F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D841F-1200-44EB-961C-B172194B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3AAE5-B5AC-4187-9230-6D6FA54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520C4-1110-4957-AD45-27C8EBC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4139-9B61-4F56-96EA-3459E73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5C3D2-6792-4500-AC8B-CAB46036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6E361-3BE5-475F-8E28-CF57FD5D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65E72-43B7-4462-8670-414A7283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490BE-D924-4624-83ED-51FB20DD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1FDA2-198B-40CB-BBAA-9DC1931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4FF8E-1871-4D90-ABCB-ABC0914C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31B7D-BC08-4300-8D5A-C81150C1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4774F-3844-4C81-A933-48B6919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8A094-FF2E-4E44-8351-13A6E1B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406AB-8E2F-4869-874F-4C2CA30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7BF-0D01-470F-B224-C4654F3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B17-D80B-410B-B58A-15AB471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B3893-8AEA-4570-9328-5D3FD27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9C039-B3B6-4AD1-8A74-D590B58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274DF-6EFA-4DDF-B99E-965848FB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F1734-EB6F-4FB2-B82E-CD37C27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64AB6-62E6-4D7B-99F4-2B969A63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B7504-3ADA-4507-BED5-7FD4A940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D9978-CFCA-4CAD-B37E-CD84C27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188BF-F8B3-4520-8592-ACC782CD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6BC06-CA9C-4B3C-A789-16684771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323B7-40A9-4933-B888-D74C24C1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704-9BCD-4630-861C-89A9AE9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BF1A00-2C25-40A5-AD44-5AB23615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D6257C-A321-4335-B0A1-F61C88F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D0636-B068-4CCC-A884-F039F8F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BB043-543B-4889-B53D-9635FE1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7BA5D-34B6-4BBA-A0A7-DCE1BC1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8D28E-AE45-4301-B8D0-A14FDBE1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6208E-8061-4E1B-89E0-147279BB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BC4CE-F4EB-4933-90E5-055859B2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3698B-2BCD-4359-A14D-F41C6A2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4BC5A-9A43-4AD0-9CF5-8BD77AB7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BA1-EF09-42F7-BE9F-7A2437A2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D5700-1219-4C0F-99B5-ECED811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BE1D3-B66C-40B9-A27F-D122E8B4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BE7C4-DC58-4088-8987-D94EE2B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DEF1C-676E-46D8-AE03-947D3B1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41417-41C6-4BEB-AA87-BBDCA4F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E8F0D-CEF8-47F3-B2AF-F8AABD8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188B3-8D83-41C9-92AE-B19C8E69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1C178-88C7-4E8C-A6A6-0CA24EAC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AE58D-F657-4D03-BAF1-D9E016E5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FC0BB-9613-4DCF-9AFF-E42321A3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666B-2843-4820-8C90-54AD271D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15099-D6A0-4FDB-8B03-A6714DC5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33EFD-C96E-4FE8-846B-75818D6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FB7D7-213A-48A9-AED6-10B7F08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70614-A391-4261-AF5F-944EF9DC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C8FCB-4317-4BB2-8D04-B9719CF2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F4022-AAA7-40A9-8E35-FB46484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267CE-57FE-4001-9C63-11AA662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68F0C-F6EB-44AF-86A2-59ED9763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7A911-2CC3-476E-AAED-19A0B468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7900A-9750-47C9-9253-CDEA0436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893-2424-4BD4-B118-5F9F1846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37623-38ED-49C7-8A74-803D78F2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59B52-B037-4781-8558-02E7446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8BB9F-FF1B-43EF-AC33-741BEFB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55C73-410C-455C-B2EA-A7BA88E0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08827-4782-4F40-9868-4CA497D2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4DB9E-0B76-44AF-A8FD-B3BD44C1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FCBA5-FDD8-4FDE-8CDF-602B3090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AD64E-145F-445D-8AAD-DB23EF1E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51A24-8BD6-4117-AB2F-26AF429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F386E-B873-4EC6-8D14-38158BD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71B7-12DC-4EE0-97D7-2A06E43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83AD8-5CE8-489C-8A7D-DEB6FB3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480327-8E00-4D86-AE40-013B9E3C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D1B92-A594-451B-9334-DDB4B55A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947F9-8879-4A6B-9992-4AD02809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FD699D-0DAC-400A-85D4-EF0ED49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1B235-51D2-4E9E-A6AF-583510B6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F6AAEA-23E3-45F7-ABEC-C3600FF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C1328-BD9F-4BBD-8ADD-74C3110A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6D6F97-F6DB-41C1-8D9B-D3868EF2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857511-C93C-43CD-926D-B9CDD25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40BA-A514-4D24-AA55-2F2F6E22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57D27-58B1-4762-9FB0-4C1F951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A803E6-27C1-4564-9CCE-BA7DF55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77E5E-7B79-4C84-AAA2-D2C429A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89875-FFDF-4625-B4B3-A45233AF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30546-7858-41B6-8291-F20ECD3A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D413C-F38B-4D63-B8AE-77612E45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E038D-D9D1-4993-8F39-81032388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F1666-868C-44D6-BBE5-E10E2B5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2E96D-9579-4AB8-B680-F71010CD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746C5A-32BF-44F4-BDC0-70A51069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5E0D-5A24-41EE-99FE-5D73A39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AE446-E61C-4707-B5A8-B0EC801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D6E1B-AB9A-4E50-8C63-1DD89F5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321521-4D3B-4927-90AE-CBC5A3D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8286AA-E5BB-43D6-A5B4-F773CD7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B743B-9F4D-4132-A2AC-50ED1CC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2D72C-75CC-4921-A2AC-F2E18105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CACBF-4BC7-439D-A793-37F15B98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DAD4-D6AE-43F4-8BE0-EE5521B3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95CD-48B7-4AF1-8CB8-E31A1A5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670-332A-4FFA-86FE-4AA11BE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2C0F-17F5-453E-95BB-B59178A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4994-7387-4809-A682-CE99167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93CF-371A-4701-92C2-2190C43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6E6D-C0BC-498F-A15B-B23E7D0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12FC-7534-48A0-837C-4568BE95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3F5A-6AAD-4C04-A5EB-3AE42FB4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E63B-8A9E-4218-BA62-EDA6C427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A37E-66A3-4992-9E21-2CAF77E3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9E10-56D7-4885-B207-750CF4D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1086-027B-46D8-A95B-FDDCFB89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A10-BE3D-4547-A795-EC17685C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29E3-56A7-4776-AA5D-274C83F2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6D63-95E3-4B32-AD3C-759AF28B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5333-DDB0-4835-85FE-DA39715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E511-97A4-4CE0-B8C8-53E37DA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80F-1865-4143-9C7E-E17FE0D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7900-0D0F-4879-8D2D-24690594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FE70-AF73-48ED-BB9D-83D9D200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AE0E-A504-4AC7-B629-C96DD00A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FED2-3BD0-48DC-BA7C-FCB455E7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C4E73-61F6-4817-B683-907B5E48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ACA-8CBC-4223-987E-3B516AF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DF68-B406-4758-B7FB-9A92635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C049-0667-4DE9-A1AF-1E11AA74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AFBE-AFB3-4F2C-B83E-B447332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56B46-2C29-4014-B45F-96A23724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CBD2-9194-4191-BD31-7EE3A5C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56A3-BEB4-4167-A425-3E09000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9D2B-779E-4E6C-AAB0-669D53C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5681-7981-4433-A5C3-2699E3B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A829-F11A-4005-983B-3666E63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D780-0644-4C68-9CF4-DB63AB15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36A-F4CC-431A-B9C8-2DA38A5F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0026-6D15-4FA6-BFCE-080BC1EC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491B-1F91-488B-AFA7-7BF86ACC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96DC-F273-4D68-8A69-6697806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E27F-D280-4C6E-A475-6112AA3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0518-E432-4654-A9CB-1F072195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ACF3-1DAD-4275-B32C-5A2370D1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1DD8-8D90-4537-BE60-FEA894F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0D9B-CE57-42F7-9A3A-DDE48E6B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B05E-F38B-47FF-BAF1-D0CEB91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8CDD-DC7B-466A-A3E8-DB951FA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48B-0203-4BD6-B3C9-C949136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A54B-5C39-491E-B9D1-8255E7A5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98C1-2627-4DA3-9108-EF1DD740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D39A-AF1C-4B6F-A16B-041AC290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13CF-7D73-49EB-ADD7-82AB0B50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9717-42DD-405F-9A6F-82E5952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4335-D28C-4459-A83C-10CDB5CE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AC74-29DA-4EB5-8537-AD539CF3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524CC-9B57-43F8-8DD1-F334603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BC09-89FB-4831-AA7A-C01B5370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EE018-338E-4C2F-B622-B0500CB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84F-8AD5-4187-B03C-52B9D1A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EB2B5-0D20-45F3-A83F-DBDA232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1AE2-AB65-450F-B19F-EEBCCAF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88DB-6C9C-4B82-9190-E9444DF9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3D5B9-F7A0-48AA-97DE-E8477BD6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AEB0-7F6D-4161-B958-6139E952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9040-4B1A-4834-BBC0-F9DB9C12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C43C-1FAB-44C8-9C88-73A23AB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5C32-1131-4A08-9FE2-ADCEC5C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CFE9C-6CC7-4ABA-9F07-1F215912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5403-956D-4595-8698-0B9D4454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61B-28F7-4CD0-9457-FE9D1200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38EF6-04AB-47FE-A2F4-B7FD510B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3A64-C2C7-49D5-90A7-FC376F4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82CD-7571-4188-B596-C194532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35D24-E278-4498-9FF8-217F8D2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D6DC-653A-40D9-B88A-14608B74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9DD3A-3310-458E-817B-C695EE18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5C3C7-47DE-4592-8E4A-F165F8E3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8F92B-4B3B-4029-BA75-F5DE5532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EF953-ED94-43C8-9EE2-211B1A9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8D93F-CED7-4FF5-83E2-C33FEB5D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AFA5-6077-49C2-B484-A20052FE48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6B2-CFE6-48D0-BAEB-DF835CD3B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D87-E75E-4D6B-A9BD-19D2FE66D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E51-4411-4D2F-AD93-5B91DFD4C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C2A-B9A9-4856-A8B7-2305E575C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29EA-0E0B-4F40-834D-5514590821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229-9098-486B-B598-E6953ACC46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417C-1274-480A-A598-4F810A81F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509-91D4-486D-813E-854C029A9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D7E8-0F52-4B90-9654-FAFF356EB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B084-6A95-4DA7-BE10-6D3339965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DDFE-FC5E-4840-9821-5BB7383C0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BF88-C116-48BB-89B6-ABD0B1575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922-88A4-4A05-AC0A-0CCA0757D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CC63-7218-407B-BD60-0F050336E6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1F9-B2D4-4749-A73C-FF1EC30EEB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771-3AAE-4684-8276-1394F9B0D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A77-CBF6-48E9-82E5-E603118D5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488-C4B8-4BA1-84D5-038AE972C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1D6-E6D6-4BBD-8DAD-2A96C915F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64FD-6D51-4FBA-AEFE-ED043AF82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8DC-C7BD-4123-8288-69D4827F53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158-1978-4A33-A51C-EA8907278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494C-C78B-41D7-81C0-BEB910197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B76-E03A-482F-A98F-9100A74CF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C89-44E3-4B05-87D0-4C6F2FA22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865-C54E-4165-9084-756C55869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D6F-9E35-4B32-84F8-FE99371EB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D4E8-5C69-4460-987F-D57DDC7E7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3C9-535B-483B-AEB2-430C5C92E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DC9E-2357-44B0-A71A-536DB456B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6EF-8DD2-48C3-8FDC-DB23869AEA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D5F-E837-4674-B1F4-9F1387ED91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AD8E-CA3F-465B-9CEF-6BEA378FFC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AD35-715B-4DC4-BAB1-78DBFF1F0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129-611D-4ACB-8E3A-CD5EBA83A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BC6-82F2-486A-966A-50127745DB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736-DE06-4459-BE73-B74EF425E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8697-5E2F-4638-8122-397F30FAA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EB5B-4855-443D-A69E-1C1B2470F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DC3-A367-45BE-81C4-238ADDAA9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9D0-2BD0-4AC6-AEB0-F48321EE1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211480" y="2914560"/>
            <a:ext cx="47210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2" descr=""/>
          <p:cNvPicPr/>
          <p:nvPr/>
        </p:nvPicPr>
        <p:blipFill>
          <a:blip r:embed="rId1"/>
          <a:stretch/>
        </p:blipFill>
        <p:spPr>
          <a:xfrm>
            <a:off x="200160" y="1343160"/>
            <a:ext cx="8743680" cy="41716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755640" y="2392200"/>
            <a:ext cx="136836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3995640" y="2406600"/>
            <a:ext cx="8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971640" y="3429000"/>
            <a:ext cx="86364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4140360" y="3471840"/>
            <a:ext cx="86328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900000" y="5013360"/>
            <a:ext cx="129564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4284720" y="5013360"/>
            <a:ext cx="863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66680" y="1881360"/>
            <a:ext cx="8809200" cy="30952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453708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611280" y="4465800"/>
            <a:ext cx="2881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44440" y="957240"/>
            <a:ext cx="8656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4840" y="1862280"/>
            <a:ext cx="8732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85760" y="1047600"/>
            <a:ext cx="8771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533520" y="1023840"/>
            <a:ext cx="80769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133200" y="784080"/>
            <a:ext cx="8877600" cy="598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1042920" y="247824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7380360" y="2997360"/>
            <a:ext cx="1008000" cy="3492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3419640" y="4119480"/>
            <a:ext cx="1584000" cy="3492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6"/>
          <a:stretch/>
        </p:blipFill>
        <p:spPr>
          <a:xfrm>
            <a:off x="1979640" y="515772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7"/>
          <a:stretch/>
        </p:blipFill>
        <p:spPr>
          <a:xfrm>
            <a:off x="2124000" y="573408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8"/>
          <a:stretch/>
        </p:blipFill>
        <p:spPr>
          <a:xfrm>
            <a:off x="4284720" y="5746680"/>
            <a:ext cx="129528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9"/>
          <a:stretch/>
        </p:blipFill>
        <p:spPr>
          <a:xfrm>
            <a:off x="1619280" y="6294600"/>
            <a:ext cx="2089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81080" y="870120"/>
            <a:ext cx="8781840" cy="5667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76040" y="642960"/>
            <a:ext cx="8790120" cy="61801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611280" y="530064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490680" y="1076400"/>
            <a:ext cx="8161200" cy="47052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971640" y="2103480"/>
            <a:ext cx="2736720" cy="4064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1871640" cy="4064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3168720" cy="4064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1187280" y="5241960"/>
            <a:ext cx="3672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7:0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